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C1FB-DB67-44FD-9C93-7504A358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4CA-8B07-4314-99EE-8343B4AE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AE0A-3CBE-4609-86C0-D26BDE00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0C18-A964-4187-B361-219D52B1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24A-DD63-4F91-A10C-EA7E7628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5A7-6229-4742-A438-734D0617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1B10-1624-4A80-89E5-77909CE3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3B7-97A2-438A-87BC-2E5872B6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B5F0-2031-4693-9F60-858BBA4D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EF5-7D3E-446F-B164-89E40137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9D5-2BD3-4299-9133-C6B0CDE8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370-85E3-4345-A12F-230023A0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0A47-8DB8-407B-9E97-850C5B84F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DESIGN BR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 TAC T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3 SYMBOLS IN A ROW VERTICALLY, HORIZONTALLY, OR DIAGONALLY WITHOUT GETTING BLOCKED.  ALTERNATE TURNS WITH ONE OTHER P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 – SOUND EFFECTS &amp; MUS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&amp; HOW WILL SOUNDS HAPPEN IN THE GAME?  WHAT MAKES A SOUND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ILL THERE BE MUSIC IN THE GAME?  WHAT MAKES THE MUSIC START &amp;/OR STO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6T17:55:38Z</dcterms:created>
  <dc:creator>localuser</dc:creator>
  <dc:description/>
  <dc:language>en-US</dc:language>
  <cp:lastModifiedBy>localuser</cp:lastModifiedBy>
  <dcterms:modified xsi:type="dcterms:W3CDTF">2011-08-26T18:24:49Z</dcterms:modified>
  <cp:revision>2</cp:revision>
  <dc:subject/>
  <dc:title>Slide 1</dc:title>
</cp:coreProperties>
</file>